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C0B824-63C7-493C-904F-C6967C87E1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D2BF5E-26AC-4283-AD19-9A4E17422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887728-D4B4-4337-83DB-4C0CE51B1F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9CB995-F210-4D06-8B36-0821E1723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1DAD1B-62DC-4D0E-94E1-F534DE528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BA4611-28B8-4E40-85A1-917C02E55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2DEE65-6C70-478F-A78E-D1E8D5B23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C56D03-7CF9-4F97-9CC9-70DFE4BDB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FE6A8-5EB2-4A79-B0B2-48971AA32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70215A-3B1C-4B1B-91C8-42D1B80B6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1CDDB-0EBD-4A90-B35E-1EA274216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9502E-A6CC-481F-B4ED-A9580C28B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143000" y="6248520"/>
            <a:ext cx="50292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00A7-5350-4A0D-877C-74C2AF3DA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HEDS%20logo_inner%20shadow" descr=""/>
          <p:cNvPicPr/>
          <p:nvPr/>
        </p:nvPicPr>
        <p:blipFill>
          <a:blip r:embed="rId3"/>
          <a:stretch/>
        </p:blipFill>
        <p:spPr>
          <a:xfrm>
            <a:off x="6705720" y="6248520"/>
            <a:ext cx="180000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720"/>
            <a:ext cx="8153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ssons Learned</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343400"/>
            <a:ext cx="6477120" cy="236232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on Tanner</a:t>
            </a:r>
            <a:endParaRPr b="0" lang="en-US" sz="24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Brush Script MT"/>
              </a:rPr>
              <a:t>Higher Education Digitisation Service</a:t>
            </a:r>
            <a:endParaRPr b="0" lang="en-US" sz="28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heds.herts.ac.uk</a:t>
            </a:r>
            <a:endParaRPr b="0" lang="en-US" sz="2400" spc="-1" strike="noStrike">
              <a:solidFill>
                <a:srgbClr val="000000"/>
              </a:solidFill>
              <a:latin typeface="Times New Roman"/>
            </a:endParaRPr>
          </a:p>
        </p:txBody>
      </p:sp>
      <p:pic>
        <p:nvPicPr>
          <p:cNvPr id="43" name="HEDS%20logo_inner%20shadow" descr=""/>
          <p:cNvPicPr/>
          <p:nvPr/>
        </p:nvPicPr>
        <p:blipFill>
          <a:blip r:embed="rId2"/>
          <a:stretch/>
        </p:blipFill>
        <p:spPr>
          <a:xfrm>
            <a:off x="2895480" y="2819520"/>
            <a:ext cx="3595680" cy="8953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304920" y="228600"/>
            <a:ext cx="8474040" cy="564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s are usually people drive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human intervention means higher cos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ff costs and overheads are often hidden w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orking in-house and can be excessiv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adata creation can eat into your budget unles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ood estimating has been don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development and delivery mechanisms ca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easily overrun and eat the rest of the budge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paration - the great hidden cost that can be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east 30% of the total.</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228600"/>
            <a:ext cx="8474040" cy="527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What Challenges Remai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etadat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bef01"/>
                </a:solidFill>
                <a:latin typeface="Arial"/>
              </a:rPr>
              <a:t>-</a:t>
            </a:r>
            <a:r>
              <a:rPr b="1" lang="en-GB" sz="2400" spc="-1" strike="noStrike">
                <a:solidFill>
                  <a:srgbClr val="ffffff"/>
                </a:solidFill>
                <a:latin typeface="Arial"/>
              </a:rPr>
              <a:t> descriptive and preservation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bef01"/>
                </a:solidFill>
                <a:latin typeface="Arial"/>
              </a:rPr>
              <a:t>	</a:t>
            </a:r>
            <a:r>
              <a:rPr b="1" lang="en-GB" sz="2400" spc="-1" strike="noStrike">
                <a:solidFill>
                  <a:srgbClr val="fbef01"/>
                </a:solidFill>
                <a:latin typeface="Arial"/>
              </a:rPr>
              <a:t>-</a:t>
            </a:r>
            <a:r>
              <a:rPr b="1" lang="en-GB" sz="2400" spc="-1" strike="noStrike">
                <a:solidFill>
                  <a:srgbClr val="ffffff"/>
                </a:solidFill>
                <a:latin typeface="Arial"/>
              </a:rPr>
              <a:t> addressed partially through METAe Metadata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Engine project </a:t>
            </a:r>
            <a:r>
              <a:rPr b="1" lang="en-GB" sz="2400" spc="-1" strike="noStrike">
                <a:solidFill>
                  <a:srgbClr val="ffffff"/>
                </a:solidFill>
                <a:latin typeface="Arial"/>
              </a:rPr>
              <a:t>	</a:t>
            </a:r>
            <a:r>
              <a:rPr b="0" lang="en-GB" sz="2400" spc="-1" strike="noStrike">
                <a:solidFill>
                  <a:srgbClr val="fbef01"/>
                </a:solidFill>
                <a:latin typeface="Times New Roman"/>
              </a:rPr>
              <a:t>http://meta-e.uibk.ac.a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reserving the physical reliability and usability of th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data.</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echnology advance and redundanc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aising revenue by providing valued servic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228600"/>
            <a:ext cx="8474040" cy="5822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One final though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Law of Disruption” by Downes and Mui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t>
            </a:r>
            <a:r>
              <a:rPr b="1" i="1" lang="en-GB" sz="2400" spc="-1" strike="noStrike">
                <a:solidFill>
                  <a:srgbClr val="ffffff"/>
                </a:solidFill>
                <a:latin typeface="Arial"/>
              </a:rPr>
              <a:t>social, political and economic system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change incrementally, but technolog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changes exponentially.</a:t>
            </a:r>
            <a:r>
              <a:rPr b="1" lang="en-GB" sz="2400" spc="-1" strike="noStrike">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I hope we will soon see is not society or cultur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stitutions “catching up” with technology, but to s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echnology being adjusted and “tamed” for our need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lang="en-GB" sz="1400" spc="-1" strike="noStrike">
                <a:solidFill>
                  <a:srgbClr val="ffffff"/>
                </a:solidFill>
                <a:latin typeface="Arial"/>
              </a:rPr>
              <a:t>Downes, Larry and Chunka Mui. 1998. </a:t>
            </a:r>
            <a:r>
              <a:rPr b="0" i="1" lang="en-GB" sz="1400" spc="-1" strike="noStrike">
                <a:solidFill>
                  <a:srgbClr val="ffffff"/>
                </a:solidFill>
                <a:latin typeface="Arial"/>
              </a:rPr>
              <a:t>Unleashing the Killer App: Digital Strategies for Market </a:t>
            </a:r>
            <a:r>
              <a:rPr b="0" i="1" lang="en-GB" sz="1400" spc="-1" strike="noStrike">
                <a:solidFill>
                  <a:srgbClr val="ffffff"/>
                </a:solidFill>
                <a:latin typeface="Arial"/>
              </a:rPr>
              <a:t>	</a:t>
            </a:r>
            <a:r>
              <a:rPr b="0" i="1" lang="en-GB" sz="1400" spc="-1" strike="noStrike">
                <a:solidFill>
                  <a:srgbClr val="ffffff"/>
                </a:solidFill>
                <a:latin typeface="Arial"/>
              </a:rPr>
              <a:t>Dominance. </a:t>
            </a:r>
            <a:r>
              <a:rPr b="0" lang="en-GB" sz="1400" spc="-1" strike="noStrike">
                <a:solidFill>
                  <a:srgbClr val="ffffff"/>
                </a:solidFill>
                <a:latin typeface="Arial"/>
              </a:rPr>
              <a:t>Boston: Harvard Business School Pres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828800"/>
            <a:ext cx="807696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3600" spc="-1" strike="noStrike">
                <a:solidFill>
                  <a:srgbClr val="ffffff"/>
                </a:solidFill>
                <a:latin typeface="Arial"/>
              </a:rPr>
              <a:t>Lessons Learned</a:t>
            </a:r>
            <a:r>
              <a:rPr b="0" lang="en-US" sz="4400" spc="-1" strike="noStrike">
                <a:solidFill>
                  <a:srgbClr val="000000"/>
                </a:solidFill>
                <a:latin typeface="Arial"/>
              </a:rPr>
              <a:t> </a:t>
            </a:r>
            <a:br>
              <a:rPr sz="4400"/>
            </a:br>
            <a:br>
              <a:rPr sz="3600"/>
            </a:br>
            <a:br>
              <a:rPr sz="3600"/>
            </a:b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67652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on Tanner</a:t>
            </a:r>
            <a:endParaRPr b="0" lang="en-US" sz="24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Brush Script MT"/>
              </a:rPr>
              <a:t>Higher Education Digitisation Service</a:t>
            </a:r>
            <a:endParaRPr b="0" lang="en-US" sz="28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heds.herts.ac.uk</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ail: heds@herts.ac.uk</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HEDS%20logo_inner%20shadow" descr=""/>
          <p:cNvPicPr/>
          <p:nvPr/>
        </p:nvPicPr>
        <p:blipFill>
          <a:blip r:embed="rId2"/>
          <a:stretch/>
        </p:blipFill>
        <p:spPr>
          <a:xfrm>
            <a:off x="3200400" y="2819520"/>
            <a:ext cx="2805120" cy="857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04920" y="304920"/>
            <a:ext cx="8686800" cy="478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Introduc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business model - why do we do it this wa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roject planning and managemen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real costs of digitisation.</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challenges remain?</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304920" y="304920"/>
            <a:ext cx="8474040" cy="5335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DS Business Model: Client Sid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single point of contact for our clients whatever the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original materials or the project goal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rvices highly tailored to meet each clients exac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eeds, plus some supporting standard produc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lient side contracts based upon a full </a:t>
            </a:r>
            <a:r>
              <a:rPr b="1" i="1" lang="en-US" sz="2400" spc="-1" strike="noStrike">
                <a:solidFill>
                  <a:srgbClr val="ffffff"/>
                </a:solidFill>
                <a:latin typeface="Arial"/>
              </a:rPr>
              <a:t>Service Level </a:t>
            </a: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Agreement</a:t>
            </a:r>
            <a:r>
              <a:rPr b="1" lang="en-US" sz="2400" spc="-1" strike="noStrike">
                <a:solidFill>
                  <a:srgbClr val="ffffff"/>
                </a:solidFill>
                <a:latin typeface="Arial"/>
              </a:rPr>
              <a:t> that specifies the job and costs 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tail.</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l contracts supported by benchmark samples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Quality Assurance plans and guarante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04920" y="304920"/>
            <a:ext cx="8474040" cy="612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EDS Business Model: Supply Sid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 range of commercial vendors bound to HED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hrough </a:t>
            </a:r>
            <a:r>
              <a:rPr b="1" i="1" lang="en-GB" sz="2400" spc="-1" strike="noStrike">
                <a:solidFill>
                  <a:srgbClr val="ffffff"/>
                </a:solidFill>
                <a:latin typeface="Arial"/>
              </a:rPr>
              <a:t>Framework Agreement</a:t>
            </a:r>
            <a:r>
              <a:rPr b="1" lang="en-GB" sz="2400" spc="-1" strike="noStrike">
                <a:solidFill>
                  <a:srgbClr val="ffffff"/>
                </a:solidFill>
                <a:latin typeface="Arial"/>
              </a:rPr>
              <a:t> documen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does a biennial survey of potential supplier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 small number of suppliers are selected for their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proven</a:t>
            </a:r>
            <a:r>
              <a:rPr b="1" lang="en-GB" sz="2400" spc="-1" strike="noStrike">
                <a:solidFill>
                  <a:srgbClr val="ffffff"/>
                </a:solidFill>
                <a:latin typeface="Arial"/>
              </a:rPr>
              <a:t> expertise in one or two area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ach task is assigned based upon the bes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value for money</a:t>
            </a:r>
            <a:r>
              <a:rPr b="1" lang="en-GB" sz="2400" spc="-1" strike="noStrike">
                <a:solidFill>
                  <a:srgbClr val="ffffff"/>
                </a:solidFill>
                <a:latin typeface="Arial"/>
              </a:rPr>
              <a:t> at the tim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igh volume tasks are distributed to spread risk.</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work closely with the production floor staff.</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04920"/>
            <a:ext cx="8474040" cy="5761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EDS: Making Mone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w overheads - no expensive scanning equipmen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nversion staff or space needed.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o have software, high spec. PC’s, large/fast data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torage needs and fire safe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either adds a small margin to the uni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roduction value or charges a direct cost to th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lien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ometimes act as managing agents for our clients on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 consultancy basi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304920"/>
            <a:ext cx="8474040" cy="4482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roject Planning is about 3 thing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Vision - can you see the whole pictur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isk management - ensuring the vision i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chievable.</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source management - putting vision into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practic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304920" y="304920"/>
            <a:ext cx="8458200" cy="527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roject Planning - Vis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scribe the project from cradle to grav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stand how the elements fit together.</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o not need to understand the detail of every elemen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but must understand it’s project implication.</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e able to define </a:t>
            </a:r>
            <a:r>
              <a:rPr b="1" lang="en-GB" sz="2400" spc="-1" strike="noStrike" u="sng">
                <a:solidFill>
                  <a:srgbClr val="ffffff"/>
                </a:solidFill>
                <a:uFillTx/>
                <a:latin typeface="Arial"/>
              </a:rPr>
              <a:t>solid</a:t>
            </a:r>
            <a:r>
              <a:rPr b="1" lang="en-GB" sz="2400" spc="-1" strike="noStrike">
                <a:solidFill>
                  <a:srgbClr val="ffffff"/>
                </a:solidFill>
                <a:latin typeface="Arial"/>
              </a:rPr>
              <a:t> objectives, goals and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deliverable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fbef01"/>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Hollywood pitch!</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304920" y="304920"/>
            <a:ext cx="8458200" cy="53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k Manageme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mploy a good project manager.</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e clear objectives and plan.</a:t>
            </a:r>
            <a:endParaRPr b="0" lang="en-US" sz="2400" spc="-1" strike="noStrike">
              <a:solidFill>
                <a:srgbClr val="000000"/>
              </a:solidFill>
              <a:latin typeface="Times New Roman"/>
            </a:endParaRPr>
          </a:p>
          <a:p>
            <a:pPr lvl="4" marL="1828800">
              <a:lnSpc>
                <a:spcPct val="100000"/>
              </a:lnSpc>
              <a:buClr>
                <a:srgbClr val="fbef01"/>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e the acceptance criteria and assign ranking.</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sure early scheduling of equipment deliver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aining - inves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honest about the potential problems and the </a:t>
            </a:r>
            <a:r>
              <a:rPr b="1" lang="en-US" sz="2400" spc="-1" strike="noStrike">
                <a:solidFill>
                  <a:srgbClr val="ffffff"/>
                </a:solidFill>
                <a:latin typeface="Arial"/>
              </a:rPr>
              <a:t>	</a:t>
            </a:r>
            <a:r>
              <a:rPr b="1" lang="en-US" sz="2400" spc="-1" strike="noStrike">
                <a:solidFill>
                  <a:srgbClr val="ffffff"/>
                </a:solidFill>
                <a:latin typeface="Arial"/>
              </a:rPr>
              <a:t>risk of </a:t>
            </a:r>
            <a:r>
              <a:rPr b="1" lang="en-US" sz="2400" spc="-1" strike="noStrike">
                <a:solidFill>
                  <a:srgbClr val="ffffff"/>
                </a:solidFill>
                <a:latin typeface="Arial"/>
              </a:rPr>
              <a:t>	</a:t>
            </a:r>
            <a:r>
              <a:rPr b="1" lang="en-US" sz="2400" spc="-1" strike="noStrike">
                <a:solidFill>
                  <a:srgbClr val="ffffff"/>
                </a:solidFill>
                <a:latin typeface="Arial"/>
              </a:rPr>
              <a:t>failur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304920" y="228600"/>
            <a:ext cx="8474040" cy="606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sting: HEDS lessons learned:</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depend up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information content of the original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balance of costs, technology and project goal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t depends on the physical nature of the original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ate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t>
            </a:r>
            <a:r>
              <a:rPr b="1" i="1" lang="en-GB" sz="1200" spc="-1" strike="noStrike">
                <a:solidFill>
                  <a:srgbClr val="ffffff"/>
                </a:solidFill>
                <a:latin typeface="Arial"/>
              </a:rPr>
              <a:t>I'd really like you to forget those figures for how much it costs JSTOR to do digitization.  They might be helpful, but in reality what matters is not how much it costs JSTOR, HEDS, GDF or any other organisation.  What matters is how much it is going to cost </a:t>
            </a:r>
            <a:r>
              <a:rPr b="1" i="1" lang="en-GB" sz="1200" spc="-1" strike="noStrike" u="sng">
                <a:solidFill>
                  <a:srgbClr val="ffffff"/>
                </a:solidFill>
                <a:uFillTx/>
                <a:latin typeface="Arial"/>
              </a:rPr>
              <a:t>you</a:t>
            </a:r>
            <a:r>
              <a:rPr b="1" i="1" lang="en-GB" sz="1200" spc="-1" strike="noStrike">
                <a:solidFill>
                  <a:srgbClr val="ffffff"/>
                </a:solidFill>
                <a:latin typeface="Arial"/>
              </a:rPr>
              <a:t>."</a:t>
            </a:r>
            <a:r>
              <a:rPr b="1" lang="en-GB" sz="1200" spc="-1" strike="noStrike">
                <a:solidFill>
                  <a:srgbClr val="ffffff"/>
                </a:solidFill>
                <a:latin typeface="Arial"/>
              </a:rPr>
              <a:t>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Kevin Guthrie, President of JSTOR during the closing panel ses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gitising Journals: Conference on Future Strategies for European Libraries, March 2000, Copenhagen.</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c:creator>
  <dc:description/>
  <dc:language>en-US</dc:language>
  <cp:lastModifiedBy>HEDS</cp:lastModifiedBy>
  <cp:lastPrinted>1997-06-19T15:52:52Z</cp:lastPrinted>
  <dcterms:modified xsi:type="dcterms:W3CDTF">2000-10-26T13:59:42Z</dcterms:modified>
  <cp:revision>92</cp:revision>
  <dc:subject/>
  <dc:title>The Higher Education Digitisation Service   meeting the needs of the higher education community</dc:title>
</cp:coreProperties>
</file>